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B706-F3E7-4692-8595-047720F41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D8F5-EA2A-43AF-89AB-D365DB4C9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E9B-24B5-40AE-9EF9-8E09F7DB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B2EB-3E46-4E53-801B-E5B88B3F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0B00-557C-4DF4-8667-BAAFD1C6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DA32-9257-4309-B777-57EF3675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B862-9D6A-4A0F-B482-05CA8995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756F-5E9D-4BBD-95B4-9C6C59CD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ABB4-D7A6-46BC-A474-647A7731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74A1-A03D-4B1C-B257-2F199A87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1B9-23FB-4C4B-AA02-1AE4DFD3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728-78F4-49AF-8CF2-BCC55592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467E-D2D6-4B7D-8BBB-7FE5124D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250-E1AB-46BA-B338-8C72C415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AD9E-F99C-449C-9F29-016FEAE67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thy Hum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thy Humal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thy Humal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athy Humala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47772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8288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Kathy. Yo vivo en New York. Tengo catorce años. Yo tengo dos hermanas y un hermano. Yo soy joven. Mi gusta jugar muchos deportes y tambien mi gusta comer mucho.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60948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Vamos en la manana para pasar todo la dia junt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amiga cuando y dond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s pues claro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e tal amiga y si yo voy con usted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e deporte quieren jugar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ieren ir a jugar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4:55:43Z</dcterms:modified>
  <cp:revision>109</cp:revision>
  <dc:subject/>
  <dc:title>Profile</dc:title>
</cp:coreProperties>
</file>